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EFE7-D9AC-40D2-A1A2-F33DFF26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0E28-8B14-4EFC-8D37-416E37E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A445-1570-4D21-AC05-4204FC4E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AA0B-D7E8-4146-9512-07773C7D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1B85-9480-4AE8-87FC-F56CC8D5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9A82-CD6C-4A6D-8E9D-E71763C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4AA4-C323-4016-8D67-560DE1BA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D98E-DDE5-4311-82B6-96FAAE61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D75B-50F9-42DF-9EA1-EE0051EA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0158-1158-4BE5-B381-688AD475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5BF2-562C-4AE9-92CD-65B4663A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B4954-6F12-4D56-B3ED-9759A62C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BBF2-4E96-4EA1-87D3-292C7C9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AAE7-3CAB-495A-B3B3-2D3A1BC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12E1-0BCB-4797-A229-21B70F32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7941-E770-4518-9B97-1AE2DAF7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EADC-0D66-4224-8935-760CA7A7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1D65-AFEC-494F-92F6-EE1735A5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0FE7-F74E-499D-B9F1-9629E3D8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3923-6137-48FE-96BD-84DF957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4B07-1646-41D9-9B8A-8A9F69D8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931D-087B-4BAF-9DB1-954B6AA9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3586-17D9-4003-BF28-AF30DE4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E46D-D696-4C57-A382-CAE1E83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6D5D-6C1A-4406-AC26-090024164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2D55-DD3C-4AF8-B905-682C7C64C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7838-091B-4D8F-ACAE-09D1CC946B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4640" y="1733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e ciphertext matrix was created by multiplying the plaintext matrix by the key matrix 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key matrix can be recovered if we know the inverse of the plaintext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3796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 = M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0920" y="5484960"/>
            <a:ext cx="25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 = 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8680" y="5513400"/>
            <a:ext cx="436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Process:  Find the inver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the known plaintext, multip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it times a segment of ciphertex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and check the resulting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D7CB-1855-4851-B7FD-70494E636A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480" y="1722600"/>
            <a:ext cx="73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 Hill cipher by hand is very time consuming however CAP will automate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35320" y="3297240"/>
            <a:ext cx="564804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288200" y="3056040"/>
            <a:ext cx="1533600" cy="723960"/>
            <a:chOff x="7288200" y="3056040"/>
            <a:chExt cx="1533600" cy="723960"/>
          </a:xfrm>
        </p:grpSpPr>
        <p:sp>
          <p:nvSpPr>
            <p:cNvPr id="124" name=""/>
            <p:cNvSpPr/>
            <p:nvPr/>
          </p:nvSpPr>
          <p:spPr>
            <a:xfrm>
              <a:off x="7288200" y="30560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8320" y="3203640"/>
              <a:ext cx="147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your bes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uess for the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3027240"/>
            <a:ext cx="1539360" cy="723960"/>
            <a:chOff x="4630680" y="3027240"/>
            <a:chExt cx="1539360" cy="723960"/>
          </a:xfrm>
        </p:grpSpPr>
        <p:sp>
          <p:nvSpPr>
            <p:cNvPr id="127" name=""/>
            <p:cNvSpPr/>
            <p:nvPr/>
          </p:nvSpPr>
          <p:spPr>
            <a:xfrm>
              <a:off x="4630680" y="30272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90800" y="3174840"/>
              <a:ext cx="147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a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laintex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40440" y="4151160"/>
            <a:ext cx="1533600" cy="723600"/>
            <a:chOff x="6040440" y="4151160"/>
            <a:chExt cx="1533600" cy="723600"/>
          </a:xfrm>
        </p:grpSpPr>
        <p:sp>
          <p:nvSpPr>
            <p:cNvPr id="130" name=""/>
            <p:cNvSpPr/>
            <p:nvPr/>
          </p:nvSpPr>
          <p:spPr>
            <a:xfrm>
              <a:off x="6040440" y="4151160"/>
              <a:ext cx="1533600" cy="72360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0080" y="4184280"/>
              <a:ext cx="1352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y the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ys until on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F843D-0160-40E3-A840-953B416717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6T23:19:17Z</dcterms:modified>
  <cp:revision>69</cp:revision>
  <dc:subject/>
  <dc:title>CAP Cryptographic Analysis Program</dc:title>
</cp:coreProperties>
</file>